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3A8BC-433A-4316-BC7E-B56ED53EC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0530-BAE3-4C3A-93FD-8DDA70CDC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3BAC6-15AB-44D1-B7EA-BD48933F9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F5875-E661-4A54-B30F-782F885EE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EB608-FC38-4E68-B75B-6236E6CF6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6B0E2-1948-4268-A899-6906000B3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3B8BC-49C6-485A-9B5D-E1400C9A0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F6F94-5C8B-4292-8D21-3EB348316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0AA03-E7FB-49F2-9A89-7107AFA2D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0F075-CC1A-4788-8762-6B2EF8582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DFAEB-76CC-435D-BA62-86E63F7EE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4F5D-021E-4565-AF9C-69597C35D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13A48-7774-4CF4-9B66-2A5380BC5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E34BA-3B87-481D-B7C2-4B6433989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E3A33-520D-49EB-97EE-E3ED27557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E82C7-072A-4C82-8F5A-8CB3DF5F9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473F6-0F39-40F7-851D-FCCD6F403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4F042-CDFC-4A17-9AEC-D89C5561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E180E-FCEF-4FCE-BB8E-ABD7B7AE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925BF-48FE-407A-BC81-B53D6DA42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EB2D3-F109-4F40-B663-F97EBC993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ACC6-F9A3-4356-A4FA-67D14522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277CC-F49C-485E-8885-03599004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2C028-DCFF-433B-B8A4-4389EEA8F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81C5-DDF2-4DA6-90E2-47B7230D3CC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DB11-7B2E-433C-B60C-5E34BB65DA5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IMFONIA</a:t>
            </a:r>
            <a:r>
              <a:rPr b="0" lang="en-US" sz="1800" spc="-1" strike="noStrike">
                <a:solidFill>
                  <a:srgbClr val="feec94"/>
                </a:solidFill>
                <a:latin typeface="Arial"/>
              </a:rPr>
              <a:t> </a:t>
            </a:r>
            <a:endParaRPr b="1" lang="en-US" sz="1800" spc="-1" strike="noStrike">
              <a:solidFill>
                <a:srgbClr val="feec94"/>
              </a:solidFill>
              <a:latin typeface="Times New Roman"/>
            </a:endParaRPr>
          </a:p>
        </p:txBody>
      </p:sp>
      <p:sp>
        <p:nvSpPr>
          <p:cNvPr id="120" name="PlaceHolder 2"/>
          <p:cNvSpPr>
            <a:spLocks noGrp="1"/>
          </p:cNvSpPr>
          <p:nvPr>
            <p:ph type="subTitle"/>
          </p:nvPr>
        </p:nvSpPr>
        <p:spPr>
          <a:xfrm>
            <a:off x="1371600" y="38872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Times New Roman"/>
            </a:endParaRPr>
          </a:p>
        </p:txBody>
      </p:sp>
      <p:sp>
        <p:nvSpPr>
          <p:cNvPr id="12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Times New Roman"/>
            </a:endParaRPr>
          </a:p>
        </p:txBody>
      </p:sp>
      <p:sp>
        <p:nvSpPr>
          <p:cNvPr id="12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24" name="Picture 10" descr=""/>
          <p:cNvPicPr/>
          <p:nvPr/>
        </p:nvPicPr>
        <p:blipFill>
          <a:blip r:embed="rId1">
            <a:grayscl/>
            <a:lum contrast="-18000"/>
          </a:blip>
          <a:stretch/>
        </p:blipFill>
        <p:spPr>
          <a:xfrm>
            <a:off x="5219640" y="907920"/>
            <a:ext cx="1440000" cy="14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Times New Roman"/>
            </a:endParaRPr>
          </a:p>
        </p:txBody>
      </p:sp>
      <p:sp>
        <p:nvSpPr>
          <p:cNvPr id="12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0:57:28Z</dcterms:modified>
  <cp:revision>47</cp:revision>
  <dc:subject/>
  <dc:title>SALARIUL</dc:title>
</cp:coreProperties>
</file>